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03D-88B6-4761-AC07-38898BC7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64D-34FF-459C-BF01-E30C2EF9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D28-F622-4C99-9708-47BF6330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1F1A-B002-4C52-99AB-D074F840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1903-3D2B-4343-8E08-C46B24EF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CA1B-3D08-45E0-934B-BF89D22B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E8C0-87D8-46CD-A4D1-FFF1400A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F766-BDD1-46CC-B870-614E4332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0DD1-B3E2-49A5-8466-8E127514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F902-6C07-4016-A436-EC4C203C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1ECA-8C6F-4024-AE92-EEC9D4F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9F9-3D54-4A25-9F64-632F1085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AACB-2F3E-40B7-A774-2000D4B8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2516-D791-4A38-A568-15279F36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FBB8-C621-4674-8E06-254FDD2D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1C8B-98A1-4EE5-98B8-CE606224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6257-2A60-47D1-9DEA-69DC5E23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1B1-FCFF-4E72-9E9F-76359C9D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AC57-AF09-4E2B-A2B6-DB04B4A8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A27-5E9D-44F0-A699-FC656990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B2F-9165-445B-A1B1-16CF6D02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C59-5B72-4FD9-A1C2-26242BC7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40B0-9B96-4C0E-87B5-8AB5E6D0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216-5BBF-442B-BE5F-A3C99B73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480"/>
                  <a:chOff x="7834680" y="842760"/>
                  <a:chExt cx="1064160" cy="114048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45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6000" y="1602000"/>
                    <a:ext cx="4741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6680"/>
                    <a:ext cx="425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4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5920"/>
                    <a:ext cx="6343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240" y="456120"/>
                    <a:ext cx="34128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5400"/>
                  <a:ext cx="1063080" cy="1141920"/>
                  <a:chOff x="6538320" y="905400"/>
                  <a:chExt cx="106308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2840" y="1194120"/>
                    <a:ext cx="8816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6680" y="1665360"/>
                    <a:ext cx="47340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600" y="861480"/>
                  <a:ext cx="1266120" cy="1051920"/>
                  <a:chOff x="6303600" y="861480"/>
                  <a:chExt cx="126612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2988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4982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680" y="826920"/>
                  <a:ext cx="1288080" cy="828720"/>
                  <a:chOff x="6286680" y="826920"/>
                  <a:chExt cx="128808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20480"/>
                    <a:ext cx="4773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720" y="787320"/>
                  <a:ext cx="1302480" cy="668520"/>
                  <a:chOff x="6273720" y="787320"/>
                  <a:chExt cx="13024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2480"/>
                    <a:ext cx="46152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2920" y="889920"/>
                    <a:ext cx="425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39800"/>
                    <a:ext cx="72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520" y="221760"/>
                  <a:ext cx="901080" cy="628200"/>
                  <a:chOff x="6752520" y="221760"/>
                  <a:chExt cx="901080" cy="62820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600"/>
                  <a:ext cx="465480" cy="809640"/>
                  <a:chOff x="7287840" y="-21600"/>
                  <a:chExt cx="46548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880" y="59760"/>
                    <a:ext cx="29376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880"/>
                  <a:ext cx="963720" cy="461880"/>
                  <a:chOff x="7792920" y="272880"/>
                  <a:chExt cx="963720" cy="46188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0240" y="329400"/>
                    <a:ext cx="3362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560" cy="604080"/>
                  <a:chOff x="7737480" y="136800"/>
                  <a:chExt cx="916560" cy="60408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5840" y="212760"/>
                    <a:ext cx="337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520"/>
                  <a:ext cx="497160" cy="790920"/>
                  <a:chOff x="7665840" y="-11520"/>
                  <a:chExt cx="49716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5840"/>
                    <a:ext cx="54396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29880"/>
                  <a:ext cx="914760" cy="1248480"/>
                  <a:chOff x="6710760" y="92988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7640" y="1256760"/>
                    <a:ext cx="8874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6680"/>
                    <a:ext cx="4759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5320" y="979200"/>
                  <a:ext cx="616680" cy="1248480"/>
                  <a:chOff x="701532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0480" y="1308960"/>
                    <a:ext cx="820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2560"/>
                    <a:ext cx="4366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920" y="1328040"/>
                    <a:ext cx="7851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640" y="1878120"/>
                    <a:ext cx="42048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360"/>
                    <a:ext cx="7534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200" y="1900080"/>
                    <a:ext cx="40608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480"/>
                    <a:ext cx="7380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2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900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60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900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E993-194D-4718-AFD0-56F86F43E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480"/>
            <a:chOff x="2010960" y="245520"/>
            <a:chExt cx="6896160" cy="545148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480"/>
              <a:chOff x="2010960" y="245520"/>
              <a:chExt cx="6896160" cy="545148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480"/>
                <a:chOff x="2010960" y="245520"/>
                <a:chExt cx="6891120" cy="545148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52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480"/>
                  <a:chOff x="2010960" y="245520"/>
                  <a:chExt cx="6891120" cy="545148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0360" y="2322720"/>
                    <a:ext cx="2559960" cy="2740680"/>
                    <a:chOff x="5760360" y="2322720"/>
                    <a:chExt cx="25599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2880" y="302040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39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840"/>
                    <a:ext cx="3039480" cy="2528640"/>
                    <a:chOff x="5787720" y="2148840"/>
                    <a:chExt cx="3039480" cy="25286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2200"/>
                      <a:ext cx="2235600" cy="42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1680"/>
                      <a:ext cx="120096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4240"/>
                    <a:ext cx="3097440" cy="1992960"/>
                    <a:chOff x="5775120" y="2064240"/>
                    <a:chExt cx="3097440" cy="199296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9120" cy="58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4640"/>
                    <a:ext cx="2364120" cy="785880"/>
                    <a:chOff x="5788440" y="1304640"/>
                    <a:chExt cx="2364120" cy="7858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2040"/>
                      <a:ext cx="1520280" cy="26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9160"/>
                    <a:ext cx="3134160" cy="1607760"/>
                    <a:chOff x="2010960" y="218916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960"/>
                    <a:ext cx="2323800" cy="1082520"/>
                    <a:chOff x="2887200" y="1236960"/>
                    <a:chExt cx="2323800" cy="10825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3600" y="17866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000" y="137088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800" y="831600"/>
                    <a:ext cx="2170800" cy="1507320"/>
                    <a:chOff x="3160800" y="831600"/>
                    <a:chExt cx="2170800" cy="15073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6040" y="1673280"/>
                      <a:ext cx="152028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6520" y="102348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5520"/>
                    <a:ext cx="1122840" cy="1946520"/>
                    <a:chOff x="4448520" y="245520"/>
                    <a:chExt cx="112284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640"/>
                      <a:ext cx="7027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2800"/>
                      <a:ext cx="151992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080"/>
                      <a:ext cx="8175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9960" y="387360"/>
                    <a:ext cx="1890000" cy="1794960"/>
                    <a:chOff x="5349960" y="387360"/>
                    <a:chExt cx="1890000" cy="17949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86360"/>
                      <a:ext cx="142452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83920"/>
                      <a:ext cx="76644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49960"/>
                    <a:ext cx="1482840" cy="2999160"/>
                    <a:chOff x="3791520" y="2649960"/>
                    <a:chExt cx="148284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600" y="3439800"/>
                      <a:ext cx="1966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000" y="4743360"/>
                      <a:ext cx="105552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360" y="3486240"/>
                      <a:ext cx="1888200" cy="34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800"/>
                    <a:ext cx="1755000" cy="3029760"/>
                    <a:chOff x="5648400" y="2593800"/>
                    <a:chExt cx="1755000" cy="302976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6240"/>
                      <a:ext cx="203400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480" y="4719960"/>
                      <a:ext cx="108972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760" y="2711160"/>
                    <a:ext cx="1226520" cy="2985840"/>
                    <a:chOff x="5576760" y="2711160"/>
                    <a:chExt cx="122652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920" y="3542400"/>
                      <a:ext cx="19717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240" y="4881600"/>
                      <a:ext cx="105912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520" y="2886840"/>
                    <a:ext cx="666000" cy="2717640"/>
                    <a:chOff x="4961520" y="2886840"/>
                    <a:chExt cx="66600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560" y="3664800"/>
                      <a:ext cx="177300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5640" y="4930560"/>
                      <a:ext cx="95112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6080"/>
                    <a:ext cx="3166560" cy="2524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2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412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7335-5C77-48FB-929A-C433CCFA680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The Road to the Constitution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6095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Articles of Confeder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41720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The state of the “union” under the Articles of Confeder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xtremely weak national govern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conomic chaos and depress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troubles with the young nation became very apparent after Shay’s Rebell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 meeting was called for the purpose of revising the Articles. However, this quickly changed to establishing a new plan for the United States governmen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Articles of Confederat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first national government was created by the Second Continental Congress in 1777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new national government was outlined in a document called the Articles of Confede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y 1781, all of the states had ratified the Articles of Confederation.</a:t>
            </a: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is a confederation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confederation is a group of individual state governments that band together for a common purpos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overnmental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national government consisted of a unicameral (one-house) legislature.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is legislature was called the Confederation Congress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ucture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There were no executive or judicial branches.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Each state had one vote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Nine votes were needed to pass a law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mending the Articles required a unanimous vote of all the state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islative Power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Under the Articles of Confederation, the Confederation Congress had the power to: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529920" indent="-529920">
              <a:spcBef>
                <a:spcPts val="10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eclare Wa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529920" indent="-529920">
              <a:spcBef>
                <a:spcPts val="10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evelop Foreign Polic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529920" indent="-529920">
              <a:spcBef>
                <a:spcPts val="1001"/>
              </a:spcBef>
              <a:buClr>
                <a:srgbClr val="ff3399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oin Mone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529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egislative Powers Continue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. </a:t>
            </a: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un the Post Offic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5. Borrow Mone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6. Appoint Officers to the Army and Navy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*All powers not specifically given to the Congress belonged to the states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Weaknesses of the Articles of Confederati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gress could not tax the states; The Congress could ask the states for money but could not compel them to pa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gress could not regulate interstate or foreign trad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ngress could declare war but had no authority to raise troop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14440" y="0"/>
            <a:ext cx="80960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4:37:47Z</dcterms:created>
  <dc:creator>Owner</dc:creator>
  <dc:description/>
  <dc:language>en-US</dc:language>
  <cp:lastModifiedBy>SysAdmin</cp:lastModifiedBy>
  <dcterms:modified xsi:type="dcterms:W3CDTF">2011-09-07T12:06:45Z</dcterms:modified>
  <cp:revision>41</cp:revision>
  <dc:subject/>
  <dc:title>The Road to the Constitution</dc:title>
</cp:coreProperties>
</file>